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5AE-DF86-4F04-AC5E-7DE5E0B7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BA3-A6F2-40BB-85A4-F7052300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E65-780F-428E-A3EC-1762BDDB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75EF-A835-4AE8-A728-43198481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F13A-FC64-4D77-9B66-78797A1A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037-EB92-44B6-8861-067E6214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719-793C-431D-B2CC-8D075D38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80B-133B-46EE-86BB-D9A4DAF2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273-4F87-471B-A9CE-903B39A4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F0D-C432-4722-8FCC-8428D1DB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C73-11CC-402D-A4B3-A304300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98A-99E5-43FF-BB18-67460A78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BA2-86AD-4D8D-B93D-9343FE3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ADE-BC8F-4B45-939F-04D7C237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C9A-080C-4812-840D-CB2F343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CA8-984F-4D88-8CD6-755CE755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67C-D0A3-4692-B57F-F0ECC27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BF8-1631-4AD9-9D3B-47B661B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AE60-201E-4B66-8016-74EAD3CC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r Weihnachtsmark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5160" y="2209320"/>
            <a:ext cx="3733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Deutschland gibt es während der Adventszeit überall Weihnachtsmä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Weihnac2"/>
          <p:cNvPicPr/>
          <p:nvPr/>
        </p:nvPicPr>
        <p:blipFill>
          <a:blip r:embed="rId1">
            <a:lum contrast="30000"/>
          </a:blip>
          <a:srcRect l="2992" t="0" r="2008" b="0"/>
          <a:stretch/>
        </p:blipFill>
        <p:spPr>
          <a:xfrm>
            <a:off x="630360" y="1066680"/>
            <a:ext cx="3786120" cy="556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ine kleine Budenstad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9-oberstrasse-marktstrasse-20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320" y="1752480"/>
            <a:ext cx="4190760" cy="3540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3" name="Picture 5" descr="35-marktplatz-gluehweinhuette-20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43400" y="1752480"/>
            <a:ext cx="4724280" cy="3567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inkauf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392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n kann vieles kau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yram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hwibbö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sskn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äuchermänn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ihnachtsgebä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ühw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iße Mar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erzen"/>
          <p:cNvPicPr/>
          <p:nvPr/>
        </p:nvPicPr>
        <p:blipFill>
          <a:blip r:embed="rId1">
            <a:lum contrast="12000"/>
          </a:blip>
          <a:srcRect l="10458" t="0" r="2844" b="0"/>
          <a:stretch/>
        </p:blipFill>
        <p:spPr>
          <a:xfrm>
            <a:off x="144360" y="1708200"/>
            <a:ext cx="4361040" cy="408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e Kri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5791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er Weihnachtsmarkt hat eine Kri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1066680" y="1015920"/>
            <a:ext cx="6934320" cy="462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r Christkindlmark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r berühmteste Weihnachtsmarkt ist der Christkindlmarkt in Nür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1-12-01-christkindlesmarkt-15-450_0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914400"/>
            <a:ext cx="4349520" cy="579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6:32:05Z</dcterms:created>
  <dc:creator>ImageUser</dc:creator>
  <dc:description/>
  <dc:language>en-US</dc:language>
  <cp:lastModifiedBy>Stefan</cp:lastModifiedBy>
  <dcterms:modified xsi:type="dcterms:W3CDTF">2010-11-01T23:00:03Z</dcterms:modified>
  <cp:revision>9</cp:revision>
  <dc:subject/>
  <dc:title>Der Weihnachtsmarkt</dc:title>
</cp:coreProperties>
</file>